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93F-4680-4986-A700-52679F2F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0D5-0461-4823-8EE0-612A794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463-90FE-4BF9-B4F6-3ABD6E8A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CDD-6397-419E-BC4D-7C11C52D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CEE-E950-44EB-80F1-8C427D9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7F1-EC2C-4D8F-98C3-DCEEBF6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0F7-E70A-40E1-B3B7-F611370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01D-4907-4386-B64D-7CDC9FF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780-4D77-4549-A16F-7411BADE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2BE-DE19-4425-B01F-B2C1B46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4AA-097E-4DD3-A07B-025B57F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F2F-4AB3-4BDC-BEB1-42F85E8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BC5-F756-4709-836E-198C64D3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37:47Z</dcterms:created>
  <dc:creator>STERLING  USD376</dc:creator>
  <dc:description/>
  <dc:language>en-US</dc:language>
  <cp:lastModifiedBy>STERLING  USD376</cp:lastModifiedBy>
  <dcterms:modified xsi:type="dcterms:W3CDTF">2009-09-03T19:38:20Z</dcterms:modified>
  <cp:revision>1</cp:revision>
  <dc:subject/>
  <dc:title>PowerPoint Presentation</dc:title>
</cp:coreProperties>
</file>